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17FC-F051-46F9-A2CD-9B1C3FA0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6D32-D917-4B7E-8D6A-86CF10BE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826E-E152-48BD-B825-38A4BEAEF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5467-FF03-4831-B601-4A853525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0329-052B-4039-AA0F-B10DD4B6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A034-BD15-43C8-89E0-6FD536A0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2061-E29E-4BF8-8DE2-B1AB748A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C589-A16E-407A-A98D-9B6499B4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AB93-3B89-4EF4-8396-FDECBF8D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8565-6018-4300-BEAA-B8763479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57BA-FD3A-411F-A95C-18395B13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E407-FE2C-4363-9749-770D6475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AF11-39CD-427F-A0B0-9E84DB9934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9:47:32Z</dcterms:created>
  <dc:creator>Admin</dc:creator>
  <dc:description/>
  <dc:language>en-US</dc:language>
  <cp:lastModifiedBy>Admin</cp:lastModifiedBy>
  <dcterms:modified xsi:type="dcterms:W3CDTF">2010-03-18T19:47:36Z</dcterms:modified>
  <cp:revision>1</cp:revision>
  <dc:subject/>
  <dc:title>Slide 1</dc:title>
</cp:coreProperties>
</file>