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86E-1229-445E-B36A-5B0D3B1C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E4F-9C5B-47E0-ADF2-F15D9205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A5D-BCD4-4712-A09E-46ADC48C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F7DD-9794-4876-8822-E9C9AF5B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7AE-ED9A-4D5F-80EF-53034700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30C2-E4D6-4B9A-9B7A-7A2A6710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D7B-CAF9-4D82-86EC-1D560D9C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53F5-2700-49EA-AB58-7C0FF2EF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5DA-6F74-48F7-9B25-FCF8FFA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ECB9-C10A-4FB2-9BBF-EED5399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805-C859-45E4-800F-041A094F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95F-1116-4CF0-BE4A-DD9813C1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137-45BF-4B08-9411-C403B6F78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9:47:32Z</dcterms:created>
  <dc:creator>Admin</dc:creator>
  <dc:description/>
  <dc:language>en-US</dc:language>
  <cp:lastModifiedBy>Admin</cp:lastModifiedBy>
  <dcterms:modified xsi:type="dcterms:W3CDTF">2010-03-18T19:47:36Z</dcterms:modified>
  <cp:revision>1</cp:revision>
  <dc:subject/>
  <dc:title>Slide 1</dc:title>
</cp:coreProperties>
</file>